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EBB-1539-4D4A-B4F6-24082A8F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AB0-D93C-47CB-85E8-EC0577FE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298-D964-443B-BECC-D4B81B56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BA77-1CDF-4157-8C48-AC85C42F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413-2B9D-41C3-B740-12660F85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CB9-7EF2-4FDC-9918-AED7729C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FBC5-DF95-4014-B234-EDB49445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9D6-09E8-4254-B156-B0220626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E46-2970-4E52-9E7C-B2A6C521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9D0-3DB7-4281-9623-B326845D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726-3415-46D5-BCC2-54B3F8C5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434-2F9E-4E76-A090-CF96E2B9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4212-2747-4F9D-91B7-275ABA8F6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33 Vykup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môj jedin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ykupiteľ môj jedi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si mi spásu vydoby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mňa si zomrel nevin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by som s tebou večne 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ám Slovo tvoje, pravdy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ré si nadovšetko ce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ňom viere mojej dávaš zb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 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u v pokušeniach v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zí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Života chlieb len v tebe mám,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ty mannou z neba sám si,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viem,</a:t>
            </a:r>
            <a:br>
              <a:rPr sz="47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mučivý smäd už nepoz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o živej vody piť keď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žijem s tebou zmier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rdci sa pokoj rozho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ôžem byť stále radost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ijímať hojnosť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v tvoju pomo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úfať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u, v sveta púšti, nie som s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máš ma rád, to dobre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tný som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 m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20:06:12Z</dcterms:modified>
  <cp:revision>22</cp:revision>
  <dc:subject/>
  <dc:title>Je veľký náš Pán, on slávy je Kráľ Nech do všetkých strán  spev vrúcnych znie chvál.</dc:title>
</cp:coreProperties>
</file>